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671-B465-4331-A256-BF396801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8E1-4978-4C7E-B093-5D3A0803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AF4-27DE-44D3-BB35-79D78D96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E82-EBFE-46CC-8D92-9AA07B28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CD3-3AAF-4C53-8312-3F4FFC7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C2F-4952-409C-AB48-215CD98D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DE6-ACE7-4DC6-8DA8-EE62108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110-2F31-4EE9-8576-6E74B6BA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24E-A8AE-4751-938B-98F2319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34E-EC82-4C53-9622-9B447926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F93-C936-4BD8-9FAA-F7233BF2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C49-FC6C-4D58-A511-CC95907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BC0-B136-4EFD-A960-B3F0AA028C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lickr.com/photos/gdsdigital/4015688799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-181080" y="0"/>
            <a:ext cx="9685440" cy="63309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260280"/>
            <a:ext cx="648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Write down 3 geographical thing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hat are happening her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Three Gorges D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5065920" cy="61657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012000" y="1125360"/>
            <a:ext cx="3132000" cy="450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Write down 2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ut the size of the d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Write dow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Write down either one social or economic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ThreeGorgesDam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972720" cy="664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lst watching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2104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down why the Dam was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tages about the 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advantages about the D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40328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youtube.com/watch?v=T2JMVxnMq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hree-gorges-dam1"/>
          <p:cNvPicPr/>
          <p:nvPr/>
        </p:nvPicPr>
        <p:blipFill>
          <a:blip r:embed="rId1"/>
          <a:stretch/>
        </p:blipFill>
        <p:spPr>
          <a:xfrm>
            <a:off x="5745240" y="3429000"/>
            <a:ext cx="3398760" cy="255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g-bbc-newsround_400"/>
          <p:cNvPicPr/>
          <p:nvPr/>
        </p:nvPicPr>
        <p:blipFill>
          <a:blip r:embed="rId2"/>
          <a:stretch/>
        </p:blipFill>
        <p:spPr>
          <a:xfrm>
            <a:off x="155520" y="46080"/>
            <a:ext cx="3809880" cy="2352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250920" y="2852640"/>
            <a:ext cx="5329080" cy="302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 information sheets around the classroom to add full detail on the D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one in your group should have a 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 info collector, intro, why it was built, positives of the project, negatives of the d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4284720" y="189000"/>
            <a:ext cx="44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Has the Three Gor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Dam benefitted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Chinese peopl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140360" y="1413000"/>
            <a:ext cx="482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a Newsround special on the question above, investigating whether the Dam is susta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484360" y="981000"/>
            <a:ext cx="324000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Three Gorges Dam was built because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724360" y="981000"/>
            <a:ext cx="3024360" cy="187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ositives of the dam are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84360" y="2852640"/>
            <a:ext cx="3240000" cy="187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negatives of the dam a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724360" y="2852640"/>
            <a:ext cx="3024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clusion, I think the dam is sustainable/not sustainable becau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84360" y="4724280"/>
            <a:ext cx="6264360" cy="865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inese government could have done ……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make it more sustainable. Because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2195640" y="189000"/>
            <a:ext cx="4248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inally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24000" y="1052640"/>
            <a:ext cx="187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the paragraph grid to evaluate the sustainability of the d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Sustainability-3-Es"/>
          <p:cNvPicPr/>
          <p:nvPr/>
        </p:nvPicPr>
        <p:blipFill>
          <a:blip r:embed="rId1"/>
          <a:stretch/>
        </p:blipFill>
        <p:spPr>
          <a:xfrm>
            <a:off x="0" y="3284640"/>
            <a:ext cx="24843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ANd9GcTmA2qdOQyhblOgl09pOUdzS024xT9VkWRTqF0HXTNFhLgInL_u"/>
          <p:cNvPicPr/>
          <p:nvPr/>
        </p:nvPicPr>
        <p:blipFill>
          <a:blip r:embed="rId1"/>
          <a:stretch/>
        </p:blipFill>
        <p:spPr>
          <a:xfrm>
            <a:off x="468360" y="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Nd9GcTmA2qdOQyhblOgl09pOUdzS024xT9VkWRTqF0HXTNFhLgInL_u"/>
          <p:cNvPicPr/>
          <p:nvPr/>
        </p:nvPicPr>
        <p:blipFill>
          <a:blip r:embed="rId2"/>
          <a:stretch/>
        </p:blipFill>
        <p:spPr>
          <a:xfrm>
            <a:off x="6372360" y="189000"/>
            <a:ext cx="222876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5003640" y="5157720"/>
            <a:ext cx="273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Very expen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468360" y="2492280"/>
            <a:ext cx="2590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hange landsca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3492360" y="3429000"/>
            <a:ext cx="43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Damage wildlife &amp; eco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826920" y="4941720"/>
            <a:ext cx="2881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Can flood down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3419640" y="1484280"/>
            <a:ext cx="31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looding controll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6" name="WordArt 10"/>
          <p:cNvSpPr txBox="1"/>
          <p:nvPr/>
        </p:nvSpPr>
        <p:spPr>
          <a:xfrm>
            <a:off x="5796000" y="2492280"/>
            <a:ext cx="29512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Tourism introduc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7" name="WordArt 11"/>
          <p:cNvSpPr txBox="1"/>
          <p:nvPr/>
        </p:nvSpPr>
        <p:spPr>
          <a:xfrm>
            <a:off x="250920" y="4149720"/>
            <a:ext cx="360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Hydroelectric p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28" name="WordArt 12"/>
          <p:cNvSpPr txBox="1"/>
          <p:nvPr/>
        </p:nvSpPr>
        <p:spPr>
          <a:xfrm>
            <a:off x="4643280" y="4365720"/>
            <a:ext cx="3168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creation opportun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2484360" y="189000"/>
            <a:ext cx="1368360" cy="936360"/>
          </a:xfrm>
          <a:prstGeom prst="plus">
            <a:avLst>
              <a:gd name="adj" fmla="val 311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932360" y="333360"/>
            <a:ext cx="129528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Nd9GcTmA2qdOQyhblOgl09pOUdzS024xT9VkWRTqF0HXTNFhLgInL_u"/>
          <p:cNvPicPr/>
          <p:nvPr/>
        </p:nvPicPr>
        <p:blipFill>
          <a:blip r:embed="rId1"/>
          <a:stretch/>
        </p:blipFill>
        <p:spPr>
          <a:xfrm>
            <a:off x="684360" y="18900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ANd9GcTmA2qdOQyhblOgl09pOUdzS024xT9VkWRTqF0HXTNFhLgInL_u"/>
          <p:cNvPicPr/>
          <p:nvPr/>
        </p:nvPicPr>
        <p:blipFill>
          <a:blip r:embed="rId2"/>
          <a:stretch/>
        </p:blipFill>
        <p:spPr>
          <a:xfrm>
            <a:off x="5940360" y="189000"/>
            <a:ext cx="2228760" cy="20574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6156360" y="249228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ery expensiv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4859280" y="3141720"/>
            <a:ext cx="223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hange landsca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5651640" y="393372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amage wildlife &amp; ecosys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4572000" y="4724280"/>
            <a:ext cx="2232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n flood down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39" name="WordArt 10"/>
          <p:cNvSpPr txBox="1"/>
          <p:nvPr/>
        </p:nvSpPr>
        <p:spPr>
          <a:xfrm>
            <a:off x="395280" y="242100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Flooding controll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0" name="WordArt 11"/>
          <p:cNvSpPr txBox="1"/>
          <p:nvPr/>
        </p:nvSpPr>
        <p:spPr>
          <a:xfrm>
            <a:off x="1258920" y="3141720"/>
            <a:ext cx="24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Tourism introduc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1" name="WordArt 12"/>
          <p:cNvSpPr txBox="1"/>
          <p:nvPr/>
        </p:nvSpPr>
        <p:spPr>
          <a:xfrm>
            <a:off x="250920" y="4149720"/>
            <a:ext cx="28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Hydroelectric pow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2" name="WordArt 13"/>
          <p:cNvSpPr txBox="1"/>
          <p:nvPr/>
        </p:nvSpPr>
        <p:spPr>
          <a:xfrm>
            <a:off x="611280" y="5084640"/>
            <a:ext cx="31687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 Black"/>
              </a:rPr>
              <a:t>Recreation opportunit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The Three Gorges Da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-360" y="3213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- I can locate the Three Gorges dam with place names – Level 4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- I can explain why the government built the Three Gorges Dam – Level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- I can evaluate whether the Dam is sustainable in developing China and its people – Level 6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50920" y="1125360"/>
            <a:ext cx="8642160" cy="1656000"/>
          </a:xfrm>
          <a:prstGeom prst="rightArrow">
            <a:avLst>
              <a:gd name="adj1" fmla="val 50000"/>
              <a:gd name="adj2" fmla="val 130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Objective- To investigate whether China is developing sustainab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565360"/>
            <a:ext cx="6119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395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dro pow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2268360" y="270828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servio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4067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angtz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xt lesson there will be an assessment on what we have learnt o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 further research one aspect of China that you are interested in, you can research your landscape from your box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971640" y="508464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eijing Olymp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995640" y="4581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hinese ca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3924360" y="602136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Chinese power (nuclear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6443640" y="5300640"/>
            <a:ext cx="24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Chinese technolo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395280" y="6093000"/>
            <a:ext cx="2448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hinese 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0000"/>
                </a:solidFill>
                <a:uFillTx/>
                <a:latin typeface="Arial"/>
              </a:rPr>
              <a:t>The Three Gorges Dam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3213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- locate the Three Gorges dam with place names – Level 4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- explain why the government built the Three Gorges Dam – Level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- evaluate whether the Dam is sustainable in developing China and its people – Level 6/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250920" y="1125360"/>
            <a:ext cx="8642160" cy="1656000"/>
          </a:xfrm>
          <a:prstGeom prst="rightArrow">
            <a:avLst>
              <a:gd name="adj1" fmla="val 50000"/>
              <a:gd name="adj2" fmla="val 1304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ing Objective- To investigate whether China is developing sustainab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2565360"/>
            <a:ext cx="6119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6"/>
          <p:cNvSpPr txBox="1"/>
          <p:nvPr/>
        </p:nvSpPr>
        <p:spPr>
          <a:xfrm>
            <a:off x="395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ydro power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2268360" y="270828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servior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4067280" y="263700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angtz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179280" y="907920"/>
            <a:ext cx="4410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2781000"/>
            <a:ext cx="83170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 there poverty in Ch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Farmer carrying water in Yingtan, Jiangxi province"/>
          <p:cNvPicPr/>
          <p:nvPr/>
        </p:nvPicPr>
        <p:blipFill>
          <a:blip r:embed="rId1"/>
          <a:stretch/>
        </p:blipFill>
        <p:spPr>
          <a:xfrm>
            <a:off x="0" y="189000"/>
            <a:ext cx="2895480" cy="1628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771640" y="1413000"/>
            <a:ext cx="385128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7 million peop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ere classified as rural poor last year by the government, earning less than 55 cents a day (30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076720" y="189000"/>
            <a:ext cx="3888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government have said by 2020 no-one in China would need to worry about food and clo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924360" y="4653000"/>
            <a:ext cx="504036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ose classified as poor are entitled to government help such as subsidies, job training, discounted loans and employment opportun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2"/>
          <p:cNvSpPr txBox="1"/>
          <p:nvPr/>
        </p:nvSpPr>
        <p:spPr>
          <a:xfrm>
            <a:off x="684360" y="4941720"/>
            <a:ext cx="292392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The poverty rate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has fallen from 85%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in 1981 to 16% in 2005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WordArt 13"/>
          <p:cNvSpPr txBox="1"/>
          <p:nvPr/>
        </p:nvSpPr>
        <p:spPr>
          <a:xfrm>
            <a:off x="4140360" y="357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There are over 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million rural peop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Minion Pro"/>
              </a:rPr>
              <a:t>living on less than $1 a day (70p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Minion Pro"/>
              <a:ea typeface="Minion Pro"/>
            </a:endParaRPr>
          </a:p>
        </p:txBody>
      </p:sp>
      <p:sp>
        <p:nvSpPr>
          <p:cNvPr id="59" name="WordArt 14"/>
          <p:cNvSpPr txBox="1"/>
          <p:nvPr/>
        </p:nvSpPr>
        <p:spPr>
          <a:xfrm>
            <a:off x="250920" y="1557360"/>
            <a:ext cx="2233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0% of tho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poverty a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rural are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6877080" y="1341360"/>
            <a:ext cx="226692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ndara"/>
              </a:rPr>
              <a:t>Girls are also more at risk than boys of becoming po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0" y="2852640"/>
            <a:ext cx="1619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hina now has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more billionaires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han any other country except the USA.</a:t>
            </a:r>
            <a:r>
              <a:rPr b="0" lang="en-GB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987640" y="189000"/>
            <a:ext cx="1944720" cy="1152360"/>
          </a:xfrm>
          <a:prstGeom prst="rect">
            <a:avLst/>
          </a:prstGeom>
          <a:solidFill>
            <a:srgbClr val="99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ap between rich and poor is already too lar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2005-2-4-poverty"/>
          <p:cNvPicPr/>
          <p:nvPr/>
        </p:nvPicPr>
        <p:blipFill>
          <a:blip r:embed="rId2"/>
          <a:stretch/>
        </p:blipFill>
        <p:spPr>
          <a:xfrm>
            <a:off x="1763640" y="3429000"/>
            <a:ext cx="2089080" cy="13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farmer_74196823"/>
          <p:cNvPicPr/>
          <p:nvPr/>
        </p:nvPicPr>
        <p:blipFill>
          <a:blip r:embed="rId3"/>
          <a:stretch/>
        </p:blipFill>
        <p:spPr>
          <a:xfrm>
            <a:off x="7958160" y="2637000"/>
            <a:ext cx="118584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armer carrying water in Yingtan, Jiangxi province"/>
          <p:cNvPicPr/>
          <p:nvPr/>
        </p:nvPicPr>
        <p:blipFill>
          <a:blip r:embed="rId1"/>
          <a:stretch/>
        </p:blipFill>
        <p:spPr>
          <a:xfrm>
            <a:off x="0" y="189000"/>
            <a:ext cx="5796000" cy="32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armer_74196823"/>
          <p:cNvPicPr/>
          <p:nvPr/>
        </p:nvPicPr>
        <p:blipFill>
          <a:blip r:embed="rId2"/>
          <a:stretch/>
        </p:blipFill>
        <p:spPr>
          <a:xfrm>
            <a:off x="5364000" y="620640"/>
            <a:ext cx="3157560" cy="4383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826920" y="2781360"/>
            <a:ext cx="831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 there poverty in Chi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>
            <a:off x="5292720" y="4941720"/>
            <a:ext cx="22334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90% of thos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poverty a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in rural area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5"/>
          <p:cNvSpPr txBox="1"/>
          <p:nvPr/>
        </p:nvSpPr>
        <p:spPr>
          <a:xfrm>
            <a:off x="1116000" y="26028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Is there poverty in Chin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24000" y="1125360"/>
            <a:ext cx="8351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1. Read your answer to the person sat next to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24000" y="2565360"/>
            <a:ext cx="8351640" cy="338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. Mark your partners answ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they answer the 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they include facts that backed up their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Did it make sense, any spelling mistak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http://www.nv.ngb.army.mil/Images/education/education.jpg"/>
          <p:cNvPicPr/>
          <p:nvPr/>
        </p:nvPicPr>
        <p:blipFill>
          <a:blip r:embed="rId1"/>
          <a:stretch/>
        </p:blipFill>
        <p:spPr>
          <a:xfrm>
            <a:off x="5580000" y="2924280"/>
            <a:ext cx="3564000" cy="1527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What does development me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Development is the process of change for the bette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585720"/>
            <a:ext cx="1104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155520" y="-585720"/>
            <a:ext cx="11048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ttp://www.iandrinstitute.org/Fist%20of%20Money.gif"/>
          <p:cNvPicPr/>
          <p:nvPr/>
        </p:nvPicPr>
        <p:blipFill>
          <a:blip r:embed="rId2"/>
          <a:stretch/>
        </p:blipFill>
        <p:spPr>
          <a:xfrm>
            <a:off x="250920" y="3429000"/>
            <a:ext cx="915840" cy="102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www.how-to-draw-cartoons-online.com/image-files/cartoon-doctor-16.gif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http://myhome.iolfree.ie/~lightbulb/Images/Tiny/Tap.gif"/>
          <p:cNvPicPr/>
          <p:nvPr/>
        </p:nvPicPr>
        <p:blipFill>
          <a:blip r:embed="rId4"/>
          <a:stretch/>
        </p:blipFill>
        <p:spPr>
          <a:xfrm>
            <a:off x="0" y="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128680" y="189000"/>
            <a:ext cx="51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youtube.com/watch?v=B7U0qaKRn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N_dam"/>
          <p:cNvPicPr/>
          <p:nvPr/>
        </p:nvPicPr>
        <p:blipFill>
          <a:blip r:embed="rId1"/>
          <a:stretch/>
        </p:blipFill>
        <p:spPr>
          <a:xfrm>
            <a:off x="3492360" y="393372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hat is a D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m is an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barri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at holds back water; dams are primarily used 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ave, man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and/o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vent the flo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excess water into specific regions. In addition, some dams are used 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enerate hydropow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What is a Da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other term often used when discussing dams is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reservo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reservoir is a man-made lake that is primarily used for storing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8260017-Claerwen_Dam_reservoir,_Elan_Valley,_Mid-Wales-SPL"/>
          <p:cNvPicPr/>
          <p:nvPr/>
        </p:nvPicPr>
        <p:blipFill>
          <a:blip r:embed="rId1"/>
          <a:stretch/>
        </p:blipFill>
        <p:spPr>
          <a:xfrm>
            <a:off x="2987640" y="3213000"/>
            <a:ext cx="3333960" cy="2524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6021360"/>
            <a:ext cx="9144000" cy="836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/O - To investigate whether China is developing sustainably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HINA_-_Three_Gorges_Dam"/>
          <p:cNvPicPr/>
          <p:nvPr/>
        </p:nvPicPr>
        <p:blipFill>
          <a:blip r:embed="rId1"/>
          <a:stretch/>
        </p:blipFill>
        <p:spPr>
          <a:xfrm>
            <a:off x="0" y="0"/>
            <a:ext cx="581040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_41665118_3_gorges_dam_416"/>
          <p:cNvPicPr/>
          <p:nvPr/>
        </p:nvPicPr>
        <p:blipFill>
          <a:blip r:embed="rId2"/>
          <a:stretch/>
        </p:blipFill>
        <p:spPr>
          <a:xfrm>
            <a:off x="3564000" y="3103560"/>
            <a:ext cx="55800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0:31:45Z</dcterms:created>
  <dc:creator>Administrator</dc:creator>
  <dc:description/>
  <dc:language>en-US</dc:language>
  <cp:lastModifiedBy>Ranweiler, Curtis M BHS</cp:lastModifiedBy>
  <dcterms:modified xsi:type="dcterms:W3CDTF">2017-03-01T14:29:58Z</dcterms:modified>
  <cp:revision>11</cp:revision>
  <dc:subject/>
  <dc:title>Slide 1</dc:title>
</cp:coreProperties>
</file>